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6A8A5-C989-4490-956A-15A427A22D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7ECE3-1A32-46C4-94BA-891045D040F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7CD-E5C4-4B3D-9D52-7F4B91C4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57C-9BC5-4B4B-8D04-F46162FC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922-EA06-4DEE-AB15-0E5DC265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A3B-88E2-47EC-A3C0-A3694D95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A81-D4A5-40CC-9EBC-330BCB84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D7E-A114-4EEB-A15D-B52A8823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A89-2B5B-4361-B047-BC24BCE4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128-FBDC-4C20-A96A-80062BC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9E5-6E50-41E8-B5FE-82E12D07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5B1-2725-4049-AEB8-56277287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056-28F5-42E9-BF7C-E7156814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5F6-A895-422D-A849-5EC40F3C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B18D2-8EE5-406E-9605-20F3CED34B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2193840" y="2219400"/>
            <a:ext cx="4883400" cy="32479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923920" y="905040"/>
            <a:ext cx="4849920" cy="1180800"/>
            <a:chOff x="2923920" y="905040"/>
            <a:chExt cx="4849920" cy="1180800"/>
          </a:xfrm>
        </p:grpSpPr>
        <p:sp>
          <p:nvSpPr>
            <p:cNvPr id="65" name="Text Box 2"/>
            <p:cNvSpPr/>
            <p:nvPr/>
          </p:nvSpPr>
          <p:spPr>
            <a:xfrm>
              <a:off x="4213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白鹅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923920" y="905040"/>
              <a:ext cx="1211040" cy="1180800"/>
              <a:chOff x="2923920" y="905040"/>
              <a:chExt cx="121104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954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923920" y="984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9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977760" y="3267000"/>
            <a:ext cx="74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课文中白鹅“严肃郑重”的叫声、“大模大样”的步态和“三眼一板”“丝毫不苟”的吃相，可以看出白鹅“高傲”的特点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课文哪些地方可以看出白鹅的“高傲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行文上，课文是按照怎样的顺序表现白鹅高傲的特点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197000" y="352440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先概括介绍白鹅高傲的特点，再以过渡句统领下文，最后从鹅的叫声、步态和吃相上具体描述鹅高傲的特点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内容占位符 2"/>
          <p:cNvSpPr/>
          <p:nvPr/>
        </p:nvSpPr>
        <p:spPr>
          <a:xfrm>
            <a:off x="625320" y="10335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描写上，课文是怎样突出白鹅高傲这一特点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1039680" y="177012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文中，作者运用对比的表现方法来突出鹅的高傲。用鹅的“引吭大叫”与狗的“狂吠”对比，表现鹅的叫声“大”和“严厉”的特点；用鸭的“步调急速，有局促不安之相”，显出鹅“步调从 容”“大模大样”的大家风范；通过对狗“躲在篱边窥伺”“敏捷地跑上来，努力地吃它的饭”“立 刻逃往篱边，蹲着静候”等如小偷般的动作的描写，彰显鹅的老爷派头。这一系列对比，突出了鹅 高傲的特点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用词上，作者运用什么手法凸显白鹅高傲的个性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1230480" y="3062160"/>
            <a:ext cx="70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用反语凸显白鹅高傲的个性，用“鹅老爷”“不胜其烦”“架子十足”等似乎含有贬义的词语，正话反说，突出表现鹅高傲十足的个性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通过写白鹅高傲的特点， 表达了怎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198440" y="278748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通过写白鹅高傲的特点，表达了作者对白鹅的喜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0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文本框 26"/>
          <p:cNvSpPr/>
          <p:nvPr/>
        </p:nvSpPr>
        <p:spPr>
          <a:xfrm>
            <a:off x="715320" y="3381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白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065320" y="208584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写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高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左大括号 13"/>
          <p:cNvSpPr/>
          <p:nvPr/>
        </p:nvSpPr>
        <p:spPr>
          <a:xfrm>
            <a:off x="1781280" y="2293920"/>
            <a:ext cx="312480" cy="2879640"/>
          </a:xfrm>
          <a:custGeom>
            <a:avLst/>
            <a:gdLst>
              <a:gd name="textAreaLeft" fmla="*/ 199800 w 312480"/>
              <a:gd name="textAreaRight" fmla="*/ 312840 w 31248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左大括号 15"/>
          <p:cNvSpPr/>
          <p:nvPr/>
        </p:nvSpPr>
        <p:spPr>
          <a:xfrm flipH="1">
            <a:off x="6735600" y="2303640"/>
            <a:ext cx="314640" cy="2879640"/>
          </a:xfrm>
          <a:custGeom>
            <a:avLst/>
            <a:gdLst>
              <a:gd name="textAreaLeft" fmla="*/ 201240 w 314640"/>
              <a:gd name="textAreaRight" fmla="*/ 315000 w 31464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6"/>
          <p:cNvSpPr/>
          <p:nvPr/>
        </p:nvSpPr>
        <p:spPr>
          <a:xfrm>
            <a:off x="7408800" y="323856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个性鲜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令人喜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1887480" y="404820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分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8"/>
          <p:cNvSpPr/>
          <p:nvPr/>
        </p:nvSpPr>
        <p:spPr>
          <a:xfrm>
            <a:off x="2817720" y="3538440"/>
            <a:ext cx="413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叫声：严肃郑重 厉声呵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左大括号 20"/>
          <p:cNvSpPr/>
          <p:nvPr/>
        </p:nvSpPr>
        <p:spPr>
          <a:xfrm>
            <a:off x="2622600" y="3559320"/>
            <a:ext cx="366840" cy="1444320"/>
          </a:xfrm>
          <a:custGeom>
            <a:avLst/>
            <a:gdLst>
              <a:gd name="textAreaLeft" fmla="*/ 234360 w 366840"/>
              <a:gd name="textAreaRight" fmla="*/ 367200 w 366840"/>
              <a:gd name="textAreaTop" fmla="*/ 9360 h 1444320"/>
              <a:gd name="textAreaBottom" fmla="*/ 1434960 h 144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9"/>
                  <a:pt x="10800" y="457"/>
                </a:cubicBezTo>
                <a:lnTo>
                  <a:pt x="10800" y="10343"/>
                </a:lnTo>
                <a:cubicBezTo>
                  <a:pt x="10800" y="10572"/>
                  <a:pt x="5400" y="10800"/>
                  <a:pt x="0" y="10800"/>
                </a:cubicBezTo>
                <a:cubicBezTo>
                  <a:pt x="5400" y="10800"/>
                  <a:pt x="10800" y="11029"/>
                  <a:pt x="10800" y="11257"/>
                </a:cubicBezTo>
                <a:lnTo>
                  <a:pt x="10800" y="21143"/>
                </a:lnTo>
                <a:cubicBezTo>
                  <a:pt x="10800" y="2137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21"/>
          <p:cNvSpPr/>
          <p:nvPr/>
        </p:nvSpPr>
        <p:spPr>
          <a:xfrm>
            <a:off x="2817720" y="4105440"/>
            <a:ext cx="431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步态：步调从容 大模大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2"/>
          <p:cNvSpPr/>
          <p:nvPr/>
        </p:nvSpPr>
        <p:spPr>
          <a:xfrm>
            <a:off x="2817720" y="4638600"/>
            <a:ext cx="397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吃相：三眼一板 丝毫不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左大括号 19"/>
          <p:cNvSpPr/>
          <p:nvPr/>
        </p:nvSpPr>
        <p:spPr>
          <a:xfrm flipH="1">
            <a:off x="6002280" y="3560760"/>
            <a:ext cx="403200" cy="1446120"/>
          </a:xfrm>
          <a:custGeom>
            <a:avLst/>
            <a:gdLst>
              <a:gd name="textAreaLeft" fmla="*/ 258120 w 403200"/>
              <a:gd name="textAreaRight" fmla="*/ 403920 w 403200"/>
              <a:gd name="textAreaTop" fmla="*/ 10440 h 1446120"/>
              <a:gd name="textAreaBottom" fmla="*/ 1435680 h 144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1"/>
                  <a:pt x="10800" y="502"/>
                </a:cubicBezTo>
                <a:lnTo>
                  <a:pt x="10800" y="10298"/>
                </a:lnTo>
                <a:cubicBezTo>
                  <a:pt x="10800" y="10549"/>
                  <a:pt x="5400" y="10800"/>
                  <a:pt x="0" y="10800"/>
                </a:cubicBezTo>
                <a:cubicBezTo>
                  <a:pt x="5400" y="10800"/>
                  <a:pt x="10800" y="11051"/>
                  <a:pt x="10800" y="11302"/>
                </a:cubicBezTo>
                <a:lnTo>
                  <a:pt x="10800" y="21098"/>
                </a:lnTo>
                <a:cubicBezTo>
                  <a:pt x="10800" y="2134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6343560" y="3532320"/>
            <a:ext cx="52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架子十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通过刻画白鹅“严肃郑重”的叫声、“大模大样”的步态和“三眼一板”的吃相，表现了白鹅高傲的特点，表达了作者对白鹅的喜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7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8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1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2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猫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猫的性格实在有些古怪。说它老实吧，它的确有时候很乖。它会找个暖和的地方，成天睡大觉，无忧无虑，什么事也不过问。可是，它决定要出去玩玩，就会出走一天一夜，任凭谁怎么呼唤，它也不肯回来。说它贪玩吧，的确是呀，要不怎么会一天一夜不回家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可是，它听到老鼠的一点响动，又是多么尽职。它屏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ǐ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n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息凝视，一连就是几个钟头，非把老鼠等出来不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它要是高兴，能比谁都温柔可亲：用身子蹭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cèn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你的腿，把脖子伸出来让你给它抓痒，或是在你写作的时候，跳上桌来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在稿纸上踩印几朵小梅花。它还会丰富多腔地叫唤，长短不同，粗细各异，变化多端。在不叫的时候，它还会咕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gū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噜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lū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咕噜地给自己解闷。这可都凭它的高兴。它若是不高兴啊，无论谁说多少好话，它也一声不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它什么都怕，总想藏起来。可是它又那么勇猛，不要说见着小虫和老鼠，就是遇上蛇也敢斗一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小猫满月的时候更可爱，腿脚还不稳，可是已经学会淘气。一根鸡毛，一个线团，都是它的好玩具，耍个没完没了。一玩起来，它不知要摔多少跟头，但是跌倒了马上起来，再跑再跌。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79480" y="284472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作者抓住特点进行描绘的方法，体会用词的准确生动和幽默有趣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内容占位符 2"/>
          <p:cNvSpPr/>
          <p:nvPr/>
        </p:nvSpPr>
        <p:spPr>
          <a:xfrm>
            <a:off x="839880" y="1198440"/>
            <a:ext cx="7642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的头撞在门上，桌腿上，撞疼了也不哭。它的胆子越来越大，逐渐开辟新的游戏场所。它到院子里来了。院中的花草可遭了殃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yān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。它在花盆里摔跤，抱着花枝打秋千，所到之处，枝折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shé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花落。你见了，绝不会责打它，它是那样生气勃勃，天真可爱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" descr="http://s2.sinaimg.cn/bmiddle/5146f23744919887f6931"/>
          <p:cNvPicPr/>
          <p:nvPr/>
        </p:nvPicPr>
        <p:blipFill>
          <a:blip r:embed="rId1"/>
          <a:stretch/>
        </p:blipFill>
        <p:spPr>
          <a:xfrm>
            <a:off x="835200" y="2077920"/>
            <a:ext cx="7638840" cy="3762360"/>
          </a:xfrm>
          <a:prstGeom prst="rect">
            <a:avLst/>
          </a:prstGeom>
          <a:ln w="0">
            <a:noFill/>
          </a:ln>
        </p:spPr>
      </p:pic>
      <p:sp>
        <p:nvSpPr>
          <p:cNvPr id="149" name="矩形 1"/>
          <p:cNvSpPr/>
          <p:nvPr/>
        </p:nvSpPr>
        <p:spPr>
          <a:xfrm>
            <a:off x="1042920" y="2374920"/>
            <a:ext cx="7234200" cy="204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鹅，鹅，鹅，曲项向天歌。白毛浮绿水，红掌拨清波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咏鹅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骆宾王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眠沙卧水自成群，曲岸残阳极浦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云。那解将心怜孔翠，羁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jī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雌长共故雄分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题鹅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李商隐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1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1096920" y="2286000"/>
            <a:ext cx="7234200" cy="3186000"/>
          </a:xfrm>
          <a:prstGeom prst="rect">
            <a:avLst/>
          </a:prstGeom>
          <a:ln w="0">
            <a:noFill/>
          </a:ln>
        </p:spPr>
      </p:pic>
      <p:sp>
        <p:nvSpPr>
          <p:cNvPr id="155" name="矩形 1"/>
          <p:cNvSpPr/>
          <p:nvPr/>
        </p:nvSpPr>
        <p:spPr>
          <a:xfrm>
            <a:off x="1042920" y="2374920"/>
            <a:ext cx="7234200" cy="2044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朱雀桥边野草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乌衣巷口夕阳斜。旧时王谢堂前燕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飞入寻常百姓家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乌衣巷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刘禹锡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眠沙卧水自成群，曲岸残阳极浦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云。那解将心怜孔翠，羁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jī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雌长 共故雄分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题鹅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李商隐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7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1726920" y="209556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“缘缘堂”的由来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2"/>
          <p:cNvSpPr/>
          <p:nvPr/>
        </p:nvSpPr>
        <p:spPr>
          <a:xfrm>
            <a:off x="1265400" y="2562120"/>
            <a:ext cx="70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丰子恺的斋号叫做“缘缘堂”，其由来很有趣。有一次，丰子恺的老师弘一法师来家中小住，丰子恺借机请老师题个斋号。法师想一妙法：让他在很多小方纸上，写上字，揉成小球，抓阄。丰子恺 随意抓了两个，展开一看，均为“缘”字，于是就将自己的寓所称为“缘缘堂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3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1688040" y="187632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含“鹅”字的歇后语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265400" y="2343240"/>
            <a:ext cx="705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诸葛亮的鹅毛扇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神妙莫测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千里送鹅毛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礼轻情意重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鹅吃草，鸭吃谷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各人享各人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9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矩形 1"/>
          <p:cNvSpPr/>
          <p:nvPr/>
        </p:nvSpPr>
        <p:spPr>
          <a:xfrm>
            <a:off x="1529280" y="37879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王羲之小故事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"/>
          <p:cNvSpPr/>
          <p:nvPr/>
        </p:nvSpPr>
        <p:spPr>
          <a:xfrm>
            <a:off x="1265400" y="4254480"/>
            <a:ext cx="723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王羲之生性爱鹅。有一次他得知一乡下老妇家中养了一只大白鹅，擅长鸣叫。王羲之要求买下来却没有得到，就带着亲友驾车前去观看。老妇听说王羲之即将到来，就把鹅宰了煮好招待王羲之，王羲之一听当场愣住， 为此叹息了一整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5" name="矩形 11"/>
          <p:cNvSpPr/>
          <p:nvPr/>
        </p:nvSpPr>
        <p:spPr>
          <a:xfrm>
            <a:off x="1017720" y="226836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篇文章的语言活泼、诙谐、准确运用了多种修辞表现手法，主要运用了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对比、拟人、反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。而反语的应用，更显得这只鹅虽然固执迂腐，却率真质朴，憨态可居，文中字里行间可以感受到作者对白鹅的喜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13"/>
          <p:cNvGrpSpPr/>
          <p:nvPr/>
        </p:nvGrpSpPr>
        <p:grpSpPr>
          <a:xfrm>
            <a:off x="814320" y="1751040"/>
            <a:ext cx="7661520" cy="2503080"/>
            <a:chOff x="814320" y="1751040"/>
            <a:chExt cx="7661520" cy="2503080"/>
          </a:xfrm>
        </p:grpSpPr>
        <p:grpSp>
          <p:nvGrpSpPr>
            <p:cNvPr id="177" name="组合 6"/>
            <p:cNvGrpSpPr/>
            <p:nvPr/>
          </p:nvGrpSpPr>
          <p:grpSpPr>
            <a:xfrm>
              <a:off x="823680" y="1868400"/>
              <a:ext cx="7652160" cy="2385720"/>
              <a:chOff x="823680" y="1868400"/>
              <a:chExt cx="7652160" cy="2385720"/>
            </a:xfrm>
          </p:grpSpPr>
          <p:sp>
            <p:nvSpPr>
              <p:cNvPr id="178" name="圆角矩形 7"/>
              <p:cNvSpPr/>
              <p:nvPr/>
            </p:nvSpPr>
            <p:spPr>
              <a:xfrm>
                <a:off x="823680" y="2934000"/>
                <a:ext cx="7652160" cy="1320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想一想，说一说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我能说出“好一个高傲的动物”这句话在文中起什么作用。我了解了课文是从哪几个方面来介绍白鹅的，也理清了课文的表达顺序。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任意多边形 10"/>
              <p:cNvSpPr/>
              <p:nvPr/>
            </p:nvSpPr>
            <p:spPr>
              <a:xfrm>
                <a:off x="1183320" y="1868400"/>
                <a:ext cx="2262600" cy="50616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0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751040"/>
              <a:ext cx="803520" cy="73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2"/>
          <p:cNvSpPr/>
          <p:nvPr/>
        </p:nvSpPr>
        <p:spPr>
          <a:xfrm>
            <a:off x="909720" y="1428840"/>
            <a:ext cx="74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好一个高傲的动物”是文章的中心句，起统领全文的作用，它也是过渡句，起承上启下的作用。课文是从叫声、步态、吃相三个方面来介绍 白鹅的。表达顺序：课文先概括介绍了白鹅 高傲的特点，再以过渡句统领全文，最后从叫声、步态、吃相三方面具体描写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13"/>
          <p:cNvGrpSpPr/>
          <p:nvPr/>
        </p:nvGrpSpPr>
        <p:grpSpPr>
          <a:xfrm>
            <a:off x="677880" y="1190520"/>
            <a:ext cx="7797960" cy="4003560"/>
            <a:chOff x="677880" y="1190520"/>
            <a:chExt cx="7797960" cy="4003560"/>
          </a:xfrm>
        </p:grpSpPr>
        <p:grpSp>
          <p:nvGrpSpPr>
            <p:cNvPr id="184" name="组合 6"/>
            <p:cNvGrpSpPr/>
            <p:nvPr/>
          </p:nvGrpSpPr>
          <p:grpSpPr>
            <a:xfrm>
              <a:off x="677880" y="1308600"/>
              <a:ext cx="7797960" cy="3885480"/>
              <a:chOff x="677880" y="1308600"/>
              <a:chExt cx="7797960" cy="3885480"/>
            </a:xfrm>
          </p:grpSpPr>
          <p:sp>
            <p:nvSpPr>
              <p:cNvPr id="185" name="矩形 7"/>
              <p:cNvSpPr/>
              <p:nvPr/>
            </p:nvSpPr>
            <p:spPr>
              <a:xfrm>
                <a:off x="677880" y="2814120"/>
                <a:ext cx="779796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.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读一读，想一想，体会这些句子在文中的表达效果。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）鹅的头在比例上比骆驼更高，与麒麟相似，正是高超的性格的表示。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）鸭的“轧轧”，其音调琐碎而愉快，有小心翼翼的意味；鹅的“轧轧”，其音调严肃郑重，有似厉声呵斥。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3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）鹅的步态，更是傲慢了。这在大体上也与鸭相似。但鸭的步调急速，有局促不安之相。鹅的步调从容，大模大样的，颇像京剧里的净角出场。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我知道作者为什么要这样写！我还能从文中找出这样的句子。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任意多边形 10"/>
              <p:cNvSpPr/>
              <p:nvPr/>
            </p:nvSpPr>
            <p:spPr>
              <a:xfrm>
                <a:off x="1079280" y="1308600"/>
                <a:ext cx="2265480" cy="5072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7" name="Picture 2" descr=""/>
            <p:cNvPicPr/>
            <p:nvPr/>
          </p:nvPicPr>
          <p:blipFill>
            <a:blip r:embed="rId1"/>
            <a:stretch/>
          </p:blipFill>
          <p:spPr>
            <a:xfrm>
              <a:off x="707040" y="1190520"/>
              <a:ext cx="804600" cy="74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2"/>
          <p:cNvSpPr/>
          <p:nvPr/>
        </p:nvSpPr>
        <p:spPr>
          <a:xfrm>
            <a:off x="909720" y="1674720"/>
            <a:ext cx="76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运用了对比的方法突出鹅的特点。如，与麒麟比较性格特点，与鸭子比较步态等，这样写鲜明生动，突出了鹅的高傲。这样的句子还有：“我们走近鸡或鸭，这鸡或鸭一定让步逃走。这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家禽之中，最傲人的无过于鹅，同时最容易捉住的也无过于鹅。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2"/>
          <p:cNvGrpSpPr/>
          <p:nvPr/>
        </p:nvGrpSpPr>
        <p:grpSpPr>
          <a:xfrm>
            <a:off x="814320" y="1258920"/>
            <a:ext cx="7661520" cy="1631520"/>
            <a:chOff x="814320" y="1258920"/>
            <a:chExt cx="7661520" cy="1631520"/>
          </a:xfrm>
        </p:grpSpPr>
        <p:grpSp>
          <p:nvGrpSpPr>
            <p:cNvPr id="190" name="组合 6"/>
            <p:cNvGrpSpPr/>
            <p:nvPr/>
          </p:nvGrpSpPr>
          <p:grpSpPr>
            <a:xfrm>
              <a:off x="814320" y="1346400"/>
              <a:ext cx="7661520" cy="1544040"/>
              <a:chOff x="814320" y="1346400"/>
              <a:chExt cx="7661520" cy="1544040"/>
            </a:xfrm>
          </p:grpSpPr>
          <p:sp>
            <p:nvSpPr>
              <p:cNvPr id="191" name="圆角矩形 7"/>
              <p:cNvSpPr/>
              <p:nvPr/>
            </p:nvSpPr>
            <p:spPr>
              <a:xfrm>
                <a:off x="814320" y="2178720"/>
                <a:ext cx="7661520" cy="711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结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《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燕子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》《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白鹅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》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这两篇课文来体会课文的表达顺序有什么不同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任意多边形 9"/>
              <p:cNvSpPr/>
              <p:nvPr/>
            </p:nvSpPr>
            <p:spPr>
              <a:xfrm>
                <a:off x="1069920" y="1346400"/>
                <a:ext cx="2544840" cy="5054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3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258920"/>
              <a:ext cx="749520" cy="65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Box 2"/>
          <p:cNvSpPr/>
          <p:nvPr/>
        </p:nvSpPr>
        <p:spPr>
          <a:xfrm>
            <a:off x="971640" y="322416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燕子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按照燕子的外形、飞行和停歇的顺序来描写的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鹅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按总分的顺序介绍的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6"/>
          <p:cNvGrpSpPr/>
          <p:nvPr/>
        </p:nvGrpSpPr>
        <p:grpSpPr>
          <a:xfrm>
            <a:off x="773280" y="1347840"/>
            <a:ext cx="7661160" cy="3468600"/>
            <a:chOff x="773280" y="1347840"/>
            <a:chExt cx="7661160" cy="3468600"/>
          </a:xfrm>
        </p:grpSpPr>
        <p:grpSp>
          <p:nvGrpSpPr>
            <p:cNvPr id="196" name="组合 2"/>
            <p:cNvGrpSpPr/>
            <p:nvPr/>
          </p:nvGrpSpPr>
          <p:grpSpPr>
            <a:xfrm>
              <a:off x="773280" y="1480680"/>
              <a:ext cx="7661160" cy="3335760"/>
              <a:chOff x="773280" y="1480680"/>
              <a:chExt cx="7661160" cy="3335760"/>
            </a:xfrm>
          </p:grpSpPr>
          <p:sp>
            <p:nvSpPr>
              <p:cNvPr id="197" name="圆角矩形 4"/>
              <p:cNvSpPr/>
              <p:nvPr/>
            </p:nvSpPr>
            <p:spPr>
              <a:xfrm>
                <a:off x="773280" y="2090520"/>
                <a:ext cx="7661160" cy="27259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一读，借助词典理解词语的意思，并体会这 些词语在文中的感情色彩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琐碎  奢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shē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）侈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chǐ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）  刁奸猥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wěi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）鄙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厉声呵斥  局促不安   窥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方正姚体"/>
                    <a:ea typeface="方正姚体"/>
                  </a:rPr>
                  <a:t>kuī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）伺  傲慢 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冥顽愚蠢  步调从容   丝毫不苟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任意多边形 5"/>
              <p:cNvSpPr/>
              <p:nvPr/>
            </p:nvSpPr>
            <p:spPr>
              <a:xfrm>
                <a:off x="1173240" y="1480680"/>
                <a:ext cx="1436400" cy="507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9" name="椭圆 7"/>
            <p:cNvGrpSpPr/>
            <p:nvPr/>
          </p:nvGrpSpPr>
          <p:grpSpPr>
            <a:xfrm>
              <a:off x="847440" y="1347840"/>
              <a:ext cx="755640" cy="716760"/>
              <a:chOff x="847440" y="1347840"/>
              <a:chExt cx="755640" cy="716760"/>
            </a:xfrm>
          </p:grpSpPr>
          <p:pic>
            <p:nvPicPr>
              <p:cNvPr id="200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47440" y="1347840"/>
                <a:ext cx="755640" cy="71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966600" y="1461960"/>
                <a:ext cx="518400" cy="49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9"/>
          <p:cNvSpPr/>
          <p:nvPr/>
        </p:nvSpPr>
        <p:spPr>
          <a:xfrm>
            <a:off x="801720" y="1135080"/>
            <a:ext cx="772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查阅词典理解词语的方法，是我们平 日里常用的。关键是在理解时要结合课文的 内容，这样才能更有针对性。如，“奢侈” 的本义是花费钱财过多，享受过分。文中说 鹅“并不奢侈”，是指鹅虽然需要三样东西 下饭，但这三样东西都是平常的东西，不需 要什么花费。再如，“局促不安”是形容拘谨、 不自然、不安定的样子。本文指鸭子的步态 急速，很不自然。这样不仅理解了词语的意思， 也体会到了这些词语在文中的感情色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7167"/>
          <p:cNvSpPr/>
          <p:nvPr/>
        </p:nvSpPr>
        <p:spPr>
          <a:xfrm>
            <a:off x="1595520" y="2430360"/>
            <a:ext cx="754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带点的字选择正确的读音，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√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供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ō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ò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处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ǔ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吭大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ē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á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窥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u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u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3547440" y="3257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6428880" y="3270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4152240" y="38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7168"/>
          <p:cNvSpPr/>
          <p:nvPr/>
        </p:nvSpPr>
        <p:spPr>
          <a:xfrm>
            <a:off x="1682640" y="326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7168"/>
          <p:cNvSpPr/>
          <p:nvPr/>
        </p:nvSpPr>
        <p:spPr>
          <a:xfrm>
            <a:off x="5522760" y="326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7168"/>
          <p:cNvSpPr/>
          <p:nvPr/>
        </p:nvSpPr>
        <p:spPr>
          <a:xfrm>
            <a:off x="2020680" y="3822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7168"/>
          <p:cNvSpPr/>
          <p:nvPr/>
        </p:nvSpPr>
        <p:spPr>
          <a:xfrm>
            <a:off x="5508360" y="3844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7011360" y="38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17"/>
          <p:cNvSpPr/>
          <p:nvPr/>
        </p:nvSpPr>
        <p:spPr>
          <a:xfrm>
            <a:off x="3381120" y="1342080"/>
            <a:ext cx="2381400" cy="368640"/>
          </a:xfrm>
          <a:prstGeom prst="pie">
            <a:avLst/>
          </a:prstGeom>
          <a:solidFill>
            <a:srgbClr val="dce6f2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习题源于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典中点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的“基础练习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3"/>
          <p:cNvSpPr/>
          <p:nvPr/>
        </p:nvSpPr>
        <p:spPr>
          <a:xfrm>
            <a:off x="1562040" y="1889280"/>
            <a:ext cx="758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 选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宵　　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忘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顽　　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2412720" y="29764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1"/>
          <p:cNvSpPr/>
          <p:nvPr/>
        </p:nvSpPr>
        <p:spPr>
          <a:xfrm>
            <a:off x="4460760" y="30020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2"/>
          <p:cNvSpPr/>
          <p:nvPr/>
        </p:nvSpPr>
        <p:spPr>
          <a:xfrm>
            <a:off x="6810120" y="29862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3"/>
          <p:cNvSpPr/>
          <p:nvPr/>
        </p:nvSpPr>
        <p:spPr>
          <a:xfrm>
            <a:off x="2071440" y="40831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4"/>
          <p:cNvSpPr/>
          <p:nvPr/>
        </p:nvSpPr>
        <p:spPr>
          <a:xfrm>
            <a:off x="4086000" y="40863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5879880" y="41036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7167"/>
          <p:cNvSpPr/>
          <p:nvPr/>
        </p:nvSpPr>
        <p:spPr>
          <a:xfrm>
            <a:off x="755640" y="1562040"/>
            <a:ext cx="754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uè                                jú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áng                                 xù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ì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í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                                      à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15880" y="37465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068800" y="27003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415880" y="269064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068800" y="48592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415880" y="48592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068800" y="37465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16"/>
          <p:cNvSpPr/>
          <p:nvPr/>
        </p:nvSpPr>
        <p:spPr>
          <a:xfrm>
            <a:off x="8429400" y="3504600"/>
            <a:ext cx="244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29"/>
          <p:cNvSpPr/>
          <p:nvPr/>
        </p:nvSpPr>
        <p:spPr>
          <a:xfrm>
            <a:off x="1633320" y="2546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超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30"/>
          <p:cNvSpPr/>
          <p:nvPr/>
        </p:nvSpPr>
        <p:spPr>
          <a:xfrm>
            <a:off x="5287680" y="2573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局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31"/>
          <p:cNvSpPr/>
          <p:nvPr/>
        </p:nvSpPr>
        <p:spPr>
          <a:xfrm>
            <a:off x="1634040" y="3652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高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32"/>
          <p:cNvSpPr/>
          <p:nvPr/>
        </p:nvSpPr>
        <p:spPr>
          <a:xfrm>
            <a:off x="5287680" y="3652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训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33"/>
          <p:cNvSpPr/>
          <p:nvPr/>
        </p:nvSpPr>
        <p:spPr>
          <a:xfrm>
            <a:off x="1634040" y="47660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脾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34"/>
          <p:cNvSpPr/>
          <p:nvPr/>
        </p:nvSpPr>
        <p:spPr>
          <a:xfrm>
            <a:off x="5286960" y="4903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傲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3"/>
          <p:cNvSpPr/>
          <p:nvPr/>
        </p:nvSpPr>
        <p:spPr>
          <a:xfrm>
            <a:off x="1574640" y="2079720"/>
            <a:ext cx="75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补充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        (    )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(    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(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2330280" y="26463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3614760" y="26478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8"/>
          <p:cNvSpPr/>
          <p:nvPr/>
        </p:nvSpPr>
        <p:spPr>
          <a:xfrm>
            <a:off x="5743440" y="26337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9"/>
          <p:cNvSpPr/>
          <p:nvPr/>
        </p:nvSpPr>
        <p:spPr>
          <a:xfrm>
            <a:off x="6685560" y="26193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2675520" y="3205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1"/>
          <p:cNvSpPr/>
          <p:nvPr/>
        </p:nvSpPr>
        <p:spPr>
          <a:xfrm>
            <a:off x="3586680" y="32083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6044040" y="3205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13"/>
          <p:cNvSpPr/>
          <p:nvPr/>
        </p:nvSpPr>
        <p:spPr>
          <a:xfrm>
            <a:off x="7269840" y="3178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2360520" y="37512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3586680" y="37512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6369480" y="37656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17"/>
          <p:cNvSpPr/>
          <p:nvPr/>
        </p:nvSpPr>
        <p:spPr>
          <a:xfrm>
            <a:off x="7261920" y="37386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3"/>
          <p:cNvSpPr/>
          <p:nvPr/>
        </p:nvSpPr>
        <p:spPr>
          <a:xfrm>
            <a:off x="770040" y="1316160"/>
            <a:ext cx="7569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五、句子练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修改病句：鹅便昂首大叫，似乎责罚人们供养不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用带点的词语造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狗又敏捷地跑上来，这回就把它的饭吃完，扬长而去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鹅的步调从容，大模大样的，颇像京剧里的净角出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改为反问句：这正是它的傲慢的性格的表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7"/>
          <p:cNvSpPr/>
          <p:nvPr/>
        </p:nvSpPr>
        <p:spPr>
          <a:xfrm>
            <a:off x="3613320" y="2182680"/>
            <a:ext cx="304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鹅便昂首大叫，似乎责备人们供养不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4"/>
          <p:cNvSpPr/>
          <p:nvPr/>
        </p:nvSpPr>
        <p:spPr>
          <a:xfrm>
            <a:off x="3573360" y="3581280"/>
            <a:ext cx="304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这回花公鸡战胜了红公鸡，扬长而去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5"/>
          <p:cNvSpPr/>
          <p:nvPr/>
        </p:nvSpPr>
        <p:spPr>
          <a:xfrm>
            <a:off x="3200400" y="4495680"/>
            <a:ext cx="304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这些白鹅的派头，颇像海军上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195640" y="5415120"/>
            <a:ext cx="2619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这不正是它的傲慢的性格的表现吗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876480"/>
              <a:ext cx="3207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在行文上，课文是按照怎样的顺序表现白鹅高傲的特点的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4135680"/>
              <a:ext cx="34560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在描写上，课文是怎样突出白鹅高傲这一特点的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143680"/>
              <a:ext cx="3468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作者通过写白鹅高傲的特点，表达了怎样的思想感情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132520"/>
              <a:ext cx="3207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在用词上，作者运用什么手法凸显白鹅高傲的个性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434320" y="2098080"/>
                <a:ext cx="4219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从课文哪些地方 可以看出白鹅的“高傲”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417200" y="13356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高傲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鹅的步态，更是傲慢了。这在大体上也与鸭相似。但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鸭的步调急速，有局促不安之相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鹅的步调从容，大模大样的，颇像京剧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净角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出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885960" y="3581280"/>
            <a:ext cx="77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净角”是一种戏曲角色，多为性格刚烈或粗暴的男性人物。作者用“净角出场”来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比喻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鹅的步态，用“鸭的步调急速，有局促不安之相”来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反衬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鹅步调的从容，更显出了鹅的步调中透出的不可一世的傲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样从容不迫地吃饭，必须有一个人在旁侍候，像饭馆里的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堂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6"/>
          <p:cNvGrpSpPr/>
          <p:nvPr/>
        </p:nvGrpSpPr>
        <p:grpSpPr>
          <a:xfrm>
            <a:off x="873000" y="3035160"/>
            <a:ext cx="7683480" cy="560520"/>
            <a:chOff x="873000" y="3035160"/>
            <a:chExt cx="7683480" cy="560520"/>
          </a:xfrm>
        </p:grpSpPr>
        <p:sp>
          <p:nvSpPr>
            <p:cNvPr id="89" name="直接连接符 7"/>
            <p:cNvSpPr/>
            <p:nvPr/>
          </p:nvSpPr>
          <p:spPr>
            <a:xfrm>
              <a:off x="873000" y="359568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任意多边形 8"/>
            <p:cNvSpPr/>
            <p:nvPr/>
          </p:nvSpPr>
          <p:spPr>
            <a:xfrm>
              <a:off x="873000" y="303516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理解：作者为何要把自己比作“堂倌”呢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矩形 4"/>
          <p:cNvSpPr/>
          <p:nvPr/>
        </p:nvSpPr>
        <p:spPr>
          <a:xfrm>
            <a:off x="892080" y="376884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堂倌”旧时用于称呼旅店、茶馆或酒店里的招待人员。堂倌过去地位低下，作者将自己比作“堂倌”，有意降低自己的身份，显示鹅的尊贵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735120" y="14050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为附近的狗都知道我们这位“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鹅老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脾气，每逢它吃饭的时候，狗就躲在篱边窥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uī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892080" y="326376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之所以称呼“鹅老爷”，是因为鹅吃饭时的确像个“老爷”，必须有人侍候，摆老爷架子；饭被狗吃完了，鹅昂首大叫，耍老爷脾气。这样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反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式的称呼，明贬实褒，言语中流露出亲昵的情感，表现了作者对鹅的喜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标注 9"/>
          <p:cNvSpPr/>
          <p:nvPr/>
        </p:nvSpPr>
        <p:spPr>
          <a:xfrm>
            <a:off x="7529760" y="2584440"/>
            <a:ext cx="321120" cy="459720"/>
          </a:xfrm>
          <a:prstGeom prst="wedgeRectCallout">
            <a:avLst>
              <a:gd name="adj1" fmla="val -379787"/>
              <a:gd name="adj2" fmla="val -20125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反语、拟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反语的手法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3"/>
          <p:cNvSpPr/>
          <p:nvPr/>
        </p:nvSpPr>
        <p:spPr>
          <a:xfrm>
            <a:off x="903240" y="1846440"/>
            <a:ext cx="734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反语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语，即通常所说的“说反话”，运用跟本来意思相反的词语或句子来表达本意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答题步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修辞手法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效果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答题模式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跟本意相反的词句）正话反说，表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感情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885960" y="1295280"/>
            <a:ext cx="76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你用反语写一句话。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24" descr="花盆.png"/>
          <p:cNvPicPr/>
          <p:nvPr/>
        </p:nvPicPr>
        <p:blipFill>
          <a:blip r:embed="rId1"/>
          <a:stretch/>
        </p:blipFill>
        <p:spPr>
          <a:xfrm>
            <a:off x="642960" y="144936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00" name="矩形 2"/>
          <p:cNvSpPr/>
          <p:nvPr/>
        </p:nvSpPr>
        <p:spPr>
          <a:xfrm>
            <a:off x="928800" y="2371680"/>
            <a:ext cx="74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爷爷刮了一下我的小鼻子，笑着说道：“你这‘小祖宗’，又要耍啥心眼儿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102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3:05:26Z</dcterms:modified>
  <cp:revision>4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